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3C7C-7532-4452-A55F-99A86F452B2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mic Sans MS"/>
              </a:rPr>
              <a:t>Детский сад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етский сад – мой дом род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Я его люблю как с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ороги мне стен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орог мне ую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аждый, кто здесь трудитс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е меня пойм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 каждым ранним солныш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 этот сад спеш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Чтоб увидеть малень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Я ими дорож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3962-97DB-4DEA-B5CE-A9D60EAD7B5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аши группы</a:t>
            </a:r>
            <a:br>
              <a:rPr sz="12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уппа «Петушок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виз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ушок с утра вст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онко песенки по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и мы не отста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месте с солнышком вста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елимся и игра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гда не уныва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2CF1-F702-48B4-BBC7-DAB0E8D6F2A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«Лучи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виз: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солнце расплывается в улыбк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зя по васильковым небе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яркий лучик нежно нас коснется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й, цветущий мир откроет 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B820-BA8C-4015-B550-CE97089DC93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«Ручее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ви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енит ручеек, бежит и смеет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группа у нас «Ручейком» и зов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им на занятиях побольше узн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 в будущем самыми умными ст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723E-9B1B-4B10-9D2F-15C1E32EE95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«Малин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евиз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Мы детиш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уппы «Малинк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м люба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плечу тропи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ихотворен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детском садике сво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мечательно живем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ы и лепим, и рисуе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танцуем, и по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чень любим выступ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на ложках  поигр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орошо живется т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с малинками зов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0BCA-B4F6-4429-9359-6401E5BBF45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«Вишен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евиз: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ишенка, вишенка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ы твои цвет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ырасти хорошим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м поможешь ты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тихотворени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бятишки очень ра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группу «Вишенка» ход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м тепло, заботу, лас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юбят взрослые дар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м игрушки стоя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жидаются ребя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м картины на ст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цветочки на ок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дут и сказка, и расск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дивляют всегда на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ы в театре все игра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артисты выступа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пеньем, рисованьем, леп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ужат дети очень крепк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ша группа просто кла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кой группе рад весь сад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BA1B-9EFF-4E60-BC63-9560CAACFF2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E91B-20D6-48C7-BFCB-6780E6AC1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6296-2826-4E3D-983D-8815B474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160B-38E1-428C-8070-6C565110F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E6EC-D156-4A3C-9322-01468BE37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C85B-FD5C-4583-A60E-0897E9C8E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08A9-F9FF-4BD7-ADA4-0B203862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368F-3E67-46B5-95D0-3B1F0CED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9A67-7A07-47F4-9865-EAA4AD93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968BF-8F8C-456D-8449-90C0483A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406B3-EF59-48BB-B08B-5FBFFD62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0321-8C86-411B-93CC-ED934018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DE38-700A-4D97-85B3-22B80BAC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8B06-EC91-4E5C-9308-37987713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F346-0CBA-4853-8DAE-130A77CF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E4333-D09A-4C83-BD6B-186BE9DF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36897-5935-41BE-831A-1F140D32C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ADD9F-5731-40BF-9B93-0CC2FB652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6125-9483-4B49-958D-3B86A917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86F1-02F0-48A3-A37C-3326879F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266B-8216-498E-AFB8-0441CC8A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AE5D-330F-41BE-8F29-61818C39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FEC0-B7C6-4FFD-8738-33071129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D06D-EA55-40A5-8902-F6C29079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ED28-A4CA-4522-A5AD-45753AC9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D0A2-38FC-4823-9589-F6BF19858E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B9E7-3864-4D92-9735-C9AA1F83243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eec94"/>
                </a:solidFill>
                <a:latin typeface="Comic Sans MS"/>
              </a:rPr>
              <a:t>Детский сад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85840" y="2214360"/>
            <a:ext cx="8229600" cy="37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Детский сад – мой дом родно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Я его люблю как сво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Дороги мне стены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Дорог мне уют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Каждый, кто здесь трудится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Те меня пойму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С каждым ранним солнышко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В этот сад спешу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Чтоб увидеть маленьких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Я ими дорожу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Comic Sans MS"/>
              </a:rPr>
              <a:t>Наши группы</a:t>
            </a:r>
            <a:br>
              <a:rPr sz="44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Группа «Петушок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виз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тушок с утра вста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вонко песенки по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о и мы не отстае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месте с солнышком вста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еселимся и играе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икогда не уныва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10" descr="SS100015"/>
          <p:cNvPicPr/>
          <p:nvPr/>
        </p:nvPicPr>
        <p:blipFill>
          <a:blip r:embed="rId1"/>
          <a:stretch/>
        </p:blipFill>
        <p:spPr>
          <a:xfrm>
            <a:off x="5003640" y="1628640"/>
            <a:ext cx="3384720" cy="43578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Группа «Лучик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43927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виз: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усть солнце расплывается в улыбке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кользя по васильковым небеса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яркий лучик нежно нас коснется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ольшой, цветущий мир откроет на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7" descr="SS100003"/>
          <p:cNvPicPr/>
          <p:nvPr/>
        </p:nvPicPr>
        <p:blipFill>
          <a:blip r:embed="rId1"/>
          <a:stretch/>
        </p:blipFill>
        <p:spPr>
          <a:xfrm>
            <a:off x="4500720" y="1989000"/>
            <a:ext cx="4465440" cy="367668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Группа «Ручеек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евиз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венит ручеек, бежит и смеется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 группа у нас «Ручейком» и зоветс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Хотим на занятиях побольше узна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тоб в будущем самыми умными ста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6" descr="SS100005"/>
          <p:cNvPicPr/>
          <p:nvPr/>
        </p:nvPicPr>
        <p:blipFill>
          <a:blip r:embed="rId1"/>
          <a:stretch/>
        </p:blipFill>
        <p:spPr>
          <a:xfrm>
            <a:off x="4643280" y="1989000"/>
            <a:ext cx="4321440" cy="375156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Группа «Малинка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виз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Мы детиш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руппы «Малинка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м люба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 плечу тропин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тихотворение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В детском садике свое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Замечательно живем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Мы и лепим, и рисуем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И танцуем, и пое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Очень любим выступать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И на ложках  поиграть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Хорошо живется ту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Нас малинками зову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12" descr="SS100017"/>
          <p:cNvPicPr/>
          <p:nvPr/>
        </p:nvPicPr>
        <p:blipFill>
          <a:blip r:embed="rId1"/>
          <a:stretch/>
        </p:blipFill>
        <p:spPr>
          <a:xfrm>
            <a:off x="4572000" y="1916280"/>
            <a:ext cx="4321080" cy="374472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Группа «Вишенка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Девиз:  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ишенка, вишенка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ы твои цветы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ырасти хорошими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м поможешь ты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Стихотворение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Ребятишки очень рад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В группу «Вишенка» ходить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ам тепло, заботу, ласку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Любят взрослые дарить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ам игрушки стоят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Дожидаются ребят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ам картины на стен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И цветочки на окне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Ждут и сказка, и рассказ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Удивляют всегда нас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Мы в театре все играе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Как артисты выступае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С пеньем, рисованьем, лепко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Дружат дети очень крепко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Наша группа просто клад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акой группе рад весь сад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7" descr="SS100021"/>
          <p:cNvPicPr/>
          <p:nvPr/>
        </p:nvPicPr>
        <p:blipFill>
          <a:blip r:embed="rId1"/>
          <a:stretch/>
        </p:blipFill>
        <p:spPr>
          <a:xfrm>
            <a:off x="4500720" y="1989000"/>
            <a:ext cx="4402080" cy="360072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LEGION</cp:lastModifiedBy>
  <dcterms:modified xsi:type="dcterms:W3CDTF">2015-01-26T14:08:31Z</dcterms:modified>
  <cp:revision>49</cp:revision>
  <dc:subject/>
  <dc:title>PowerPoint Presentation</dc:title>
</cp:coreProperties>
</file>